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293-9752-4F21-B351-EFD64C90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211-26BF-43DE-9D55-647207A1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D8E-DC2C-42D6-84A3-45A1E108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D00-10C6-482A-9543-AAC18DA6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758-1CA3-45FB-8CDE-23AF60AA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D06-6CA3-4F25-884E-247D7DBC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0282-1640-4796-BA81-AD4DA6F9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695-70BD-4D2F-A988-678AF8ED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4F8-5A7D-4751-A79C-58A7F8F1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488-990D-49AD-96E4-3D601F14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6CE-0852-4956-8820-685FD3BF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23D-C036-4D54-A495-FB60DE90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620040"/>
            <a:ext cx="24382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EP CASTILLEJA DE LA CUE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438280" y="228240"/>
            <a:ext cx="6096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ESARROLLO CURRICULAR DE CCBB Y MEJORA DEL CE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267080" y="6629040"/>
            <a:ext cx="609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483D-92CA-4309-9BFB-8C669969652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362320" y="914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8381880" y="6629400"/>
            <a:ext cx="320760" cy="228600"/>
          </a:xfrm>
          <a:custGeom>
            <a:avLst/>
            <a:gdLst>
              <a:gd name="textAreaLeft" fmla="*/ 14760 w 320760"/>
              <a:gd name="textAreaRight" fmla="*/ 306000 w 320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0294" h="21600">
                <a:moveTo>
                  <a:pt x="0" y="0"/>
                </a:moveTo>
                <a:lnTo>
                  <a:pt x="30294" y="0"/>
                </a:lnTo>
                <a:lnTo>
                  <a:pt x="30294" y="21600"/>
                </a:lnTo>
                <a:lnTo>
                  <a:pt x="0" y="21600"/>
                </a:lnTo>
                <a:close/>
              </a:path>
              <a:path fill="lightenLess" w="30294" h="21600">
                <a:moveTo>
                  <a:pt x="0" y="0"/>
                </a:moveTo>
                <a:lnTo>
                  <a:pt x="30294" y="0"/>
                </a:lnTo>
                <a:lnTo>
                  <a:pt x="28894" y="1400"/>
                </a:lnTo>
                <a:lnTo>
                  <a:pt x="1400" y="1400"/>
                </a:lnTo>
                <a:close/>
              </a:path>
              <a:path fill="darken" w="30294" h="21600">
                <a:moveTo>
                  <a:pt x="30294" y="0"/>
                </a:moveTo>
                <a:lnTo>
                  <a:pt x="30294" y="21600"/>
                </a:lnTo>
                <a:lnTo>
                  <a:pt x="28894" y="20200"/>
                </a:lnTo>
                <a:lnTo>
                  <a:pt x="28894" y="1400"/>
                </a:lnTo>
                <a:close/>
              </a:path>
              <a:path fill="darkenLess" w="30294" h="21600">
                <a:moveTo>
                  <a:pt x="302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94" y="20200"/>
                </a:lnTo>
                <a:close/>
              </a:path>
              <a:path fill="lighten" w="302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94" h="21600">
                <a:moveTo>
                  <a:pt x="8141" y="10800"/>
                </a:moveTo>
                <a:lnTo>
                  <a:pt x="22154" y="3794"/>
                </a:lnTo>
                <a:lnTo>
                  <a:pt x="2215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8686800" y="6629400"/>
            <a:ext cx="320760" cy="228600"/>
          </a:xfrm>
          <a:custGeom>
            <a:avLst/>
            <a:gdLst>
              <a:gd name="textAreaLeft" fmla="*/ 14760 w 320760"/>
              <a:gd name="textAreaRight" fmla="*/ 306000 w 320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0294" h="21600">
                <a:moveTo>
                  <a:pt x="0" y="0"/>
                </a:moveTo>
                <a:lnTo>
                  <a:pt x="30294" y="0"/>
                </a:lnTo>
                <a:lnTo>
                  <a:pt x="30294" y="21600"/>
                </a:lnTo>
                <a:lnTo>
                  <a:pt x="0" y="21600"/>
                </a:lnTo>
                <a:close/>
              </a:path>
              <a:path fill="lightenLess" w="30294" h="21600">
                <a:moveTo>
                  <a:pt x="0" y="0"/>
                </a:moveTo>
                <a:lnTo>
                  <a:pt x="30294" y="0"/>
                </a:lnTo>
                <a:lnTo>
                  <a:pt x="28894" y="1400"/>
                </a:lnTo>
                <a:lnTo>
                  <a:pt x="1400" y="1400"/>
                </a:lnTo>
                <a:close/>
              </a:path>
              <a:path fill="darken" w="30294" h="21600">
                <a:moveTo>
                  <a:pt x="30294" y="0"/>
                </a:moveTo>
                <a:lnTo>
                  <a:pt x="30294" y="21600"/>
                </a:lnTo>
                <a:lnTo>
                  <a:pt x="28894" y="20200"/>
                </a:lnTo>
                <a:lnTo>
                  <a:pt x="28894" y="1400"/>
                </a:lnTo>
                <a:close/>
              </a:path>
              <a:path fill="darkenLess" w="30294" h="21600">
                <a:moveTo>
                  <a:pt x="302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94" y="20200"/>
                </a:lnTo>
                <a:close/>
              </a:path>
              <a:path fill="lighten" w="302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94" h="21600">
                <a:moveTo>
                  <a:pt x="8141" y="3794"/>
                </a:moveTo>
                <a:lnTo>
                  <a:pt x="22154" y="10800"/>
                </a:lnTo>
                <a:lnTo>
                  <a:pt x="814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p3.blogger.com/_9o_TBponioc/Ryi6PKaJgxI/AAAAAAAAABc/dVf6NeJN3TE/s1600-h/argumentario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p0.blogger.com/_3X9GAT24T6Y/RuDYi_oDucI/AAAAAAAADPs/lr9PTtN41jk/s1600-h/brainstorm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730080"/>
            <a:ext cx="8534160" cy="1219320"/>
          </a:xfrm>
          <a:prstGeom prst="downArrowCallout">
            <a:avLst>
              <a:gd name="adj1" fmla="val -48403"/>
              <a:gd name="adj2" fmla="val 152976"/>
              <a:gd name="adj3" fmla="val 33986"/>
              <a:gd name="adj4" fmla="val 42449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76104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SAMIENTO REFLEX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025720"/>
            <a:ext cx="8610480" cy="373356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3 CuadroTexto"/>
          <p:cNvSpPr/>
          <p:nvPr/>
        </p:nvSpPr>
        <p:spPr>
          <a:xfrm>
            <a:off x="457200" y="22543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ensamiento reflexiv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s el modo de pensar que nos perm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Ordenar nuestras ideas y tomar conciencia de ell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econocer y valorar nuestra forma de pens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sar reflexivamente nos permite tomar conciencia de nuestro “estilo de pensamiento”, así como de nuestra “mentalidad”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A16-DCFA-44CF-B5E8-1D1B1CF30B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ttp://bp3.blogger.com/_9o_TBponioc/Ryi6PKaJgxI/AAAAAAAAABc/dVf6NeJN3TE/s320/argumentari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952560"/>
            <a:ext cx="5257800" cy="4952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754200">
            <a:off x="4952520" y="3429000"/>
            <a:ext cx="373392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ÓGIC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904-84DD-4A85-A5F1-BBEFC0702B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43080" y="1219320"/>
          <a:ext cx="8458200" cy="4289400"/>
        </p:xfrm>
        <a:graphic>
          <a:graphicData uri="http://schemas.openxmlformats.org/drawingml/2006/table">
            <a:tbl>
              <a:tblPr/>
              <a:tblGrid>
                <a:gridCol w="3208320"/>
                <a:gridCol w="5249880"/>
              </a:tblGrid>
              <a:tr h="8589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NSAMIENTO 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Opera con razones y crea argumen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22004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aprender a apr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ntifica las razon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que exponen las personas que no quieren limitar el consumo de televisión y las que quieren limitarl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982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social y ciudad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ribe de una forma clara y ordenad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s conclusion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ue has obtenido de tu análisis de una notic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96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autonomía e iniciativa perso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cribe y expres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us propias razon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ara el uso libre o limitado de la televisió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CFE-47E9-4A67-B95C-F043BB0848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36600" y="2057400"/>
          <a:ext cx="8470800" cy="301140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461520"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3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CESO COGNITIVO 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829880">
                <a:tc>
                  <a:txBody>
                    <a:bodyPr lIns="47880" rIns="4788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dena los monumentos de la localidad para realizar itinerario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las, concep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A95-8F65-4118-BBAC-F36F58A468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533520"/>
            <a:ext cx="8534160" cy="1218960"/>
          </a:xfrm>
          <a:prstGeom prst="downArrowCallout">
            <a:avLst>
              <a:gd name="adj1" fmla="val -48418"/>
              <a:gd name="adj2" fmla="val 153021"/>
              <a:gd name="adj3" fmla="val 33986"/>
              <a:gd name="adj4" fmla="val 42449"/>
            </a:avLst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084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NSAMIENTO CR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760" y="1828800"/>
            <a:ext cx="8610480" cy="4495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 Rectángulo"/>
          <p:cNvSpPr/>
          <p:nvPr/>
        </p:nvSpPr>
        <p:spPr>
          <a:xfrm>
            <a:off x="447840" y="1828800"/>
            <a:ext cx="824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El pensamiento crítico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 se interes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por los fundamentos en los que se asienta nuestras ideas, nuestras acciones, nuestras valoraciones, o nuestros ju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 pensamiento crítico nos enfrenta, como si de un juego de espejos se tratara, a la realidad en todas sus dimensiones: la realidad como decimos que es, la realidad como deseamos que sea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 pensamiento crítico es el pensamiento de los interrogantes, de las preguntas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é hace posible… (Condiciones de posibilidad o necesid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4F5-D6FF-44A2-8BB7-B7E37E5EBC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5 Grupo"/>
          <p:cNvGrpSpPr/>
          <p:nvPr/>
        </p:nvGrpSpPr>
        <p:grpSpPr>
          <a:xfrm>
            <a:off x="1143000" y="685800"/>
            <a:ext cx="7238880" cy="5867280"/>
            <a:chOff x="1143000" y="685800"/>
            <a:chExt cx="7238880" cy="5867280"/>
          </a:xfrm>
        </p:grpSpPr>
        <p:pic>
          <p:nvPicPr>
            <p:cNvPr id="73" name="Picture 2" descr="lc3"/>
            <p:cNvPicPr/>
            <p:nvPr/>
          </p:nvPicPr>
          <p:blipFill>
            <a:blip r:embed="rId1"/>
            <a:stretch/>
          </p:blipFill>
          <p:spPr>
            <a:xfrm>
              <a:off x="1143000" y="685800"/>
              <a:ext cx="723888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4 Rectángulo"/>
            <p:cNvSpPr/>
            <p:nvPr/>
          </p:nvSpPr>
          <p:spPr>
            <a:xfrm>
              <a:off x="6178680" y="6021360"/>
              <a:ext cx="220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Calibri"/>
                </a:rPr>
                <a:t>Dr. Richard Paul 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Calibri"/>
                </a:rPr>
                <a:t>Dra. Linda El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 txBox="1"/>
          <p:nvPr/>
        </p:nvSpPr>
        <p:spPr>
          <a:xfrm rot="19095600">
            <a:off x="0" y="1066320"/>
            <a:ext cx="2260440" cy="8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ÍTIC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916-BA11-40F3-B490-47A89B1E1B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43080" y="914400"/>
          <a:ext cx="8458200" cy="4950000"/>
        </p:xfrm>
        <a:graphic>
          <a:graphicData uri="http://schemas.openxmlformats.org/drawingml/2006/table">
            <a:tbl>
              <a:tblPr/>
              <a:tblGrid>
                <a:gridCol w="3209760"/>
                <a:gridCol w="5248440"/>
              </a:tblGrid>
              <a:tr h="95400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ENSAMIENTO CRÍ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Opera con preguntas y busca razones, supuestos, condiciones, et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</a:tr>
              <a:tr h="152424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comunic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e el acuerdo suscrito por las televisiones para no emitir determinadas imágenes en horario infantil y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subraya las razon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or las que se adopt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1218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social y ciudad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bserva los programas en horario infantil y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comprueb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que cadenas se cumple y en que cadenas no se cump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autonomía e iniciativa perso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 un listado de algunas de las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consecuenci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ositivas y/o negativas que puede tener el consumo limitado de la telev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F66-64A3-4561-92FE-F5F5A2E795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36600" y="2133720"/>
          <a:ext cx="8470800" cy="301140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461880"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CESO COGNITIVO CRÍ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</a:tr>
              <a:tr h="1828800">
                <a:tc>
                  <a:txBody>
                    <a:bodyPr lIns="47880" rIns="4788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é sería necesario mejorar para atraer al turismo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ptos, valor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6ED-D132-477B-B759-68CD38BDD7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415880"/>
            <a:ext cx="8534160" cy="1219320"/>
          </a:xfrm>
          <a:prstGeom prst="downArrowCallout">
            <a:avLst>
              <a:gd name="adj1" fmla="val -48403"/>
              <a:gd name="adj2" fmla="val 152976"/>
              <a:gd name="adj3" fmla="val 33986"/>
              <a:gd name="adj4" fmla="val 42449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446840"/>
            <a:ext cx="838224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NSAMIENTO CRE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6760" y="3048120"/>
            <a:ext cx="8610480" cy="21333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2 Rectángulo"/>
          <p:cNvSpPr/>
          <p:nvPr/>
        </p:nvSpPr>
        <p:spPr>
          <a:xfrm>
            <a:off x="249120" y="320040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El pensamiento creativ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puede ser concebido y definido como un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pensamiento de la posibilida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 pensamiento creativo, entendido como el uso consciente de la capacidad autorganizativa de nuestro cerebro, puede ser aprend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F26-BBED-4676-B3FF-AD0182C03D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http://bp0.blogger.com/_3X9GAT24T6Y/RuDYi_oDucI/AAAAAAAADPs/lr9PTtN41jk/s400/brainstorm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838080"/>
            <a:ext cx="4849920" cy="5639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19821600">
            <a:off x="1426680" y="498600"/>
            <a:ext cx="29894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EATIV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E47-D6AD-447B-B82D-1C64D06B02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04920" y="685800"/>
          <a:ext cx="8458200" cy="5181480"/>
        </p:xfrm>
        <a:graphic>
          <a:graphicData uri="http://schemas.openxmlformats.org/drawingml/2006/table">
            <a:tbl>
              <a:tblPr/>
              <a:tblGrid>
                <a:gridCol w="3206520"/>
                <a:gridCol w="5251680"/>
              </a:tblGrid>
              <a:tr h="91152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ENSAMIENTO CRE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Opera con ideas y busca nuevas ide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22004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comun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scribe algun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frases que sirvan de lemas para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animar a participa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el proyecto de un consumo responsable de la telev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1829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social y ciudad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Prepara algunas propuest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ara presentarlas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como alternativ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el debate que vamos a realizar en clase son esta cuestión ¿qué actividades se podrían desarrollar como alternativa a ver la televisió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cultural y artís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iseña algunos sencillos logotip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que sirvan para animar a participar en la campaña por un consumo responsable de la telev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A48-FCB6-49D1-8AB7-EC3FB22F31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mapa%20mental%20(Bouzan,%202003)"/>
          <p:cNvPicPr/>
          <p:nvPr/>
        </p:nvPicPr>
        <p:blipFill>
          <a:blip r:embed="rId1"/>
          <a:srcRect l="0" t="0" r="0" b="8798"/>
          <a:stretch/>
        </p:blipFill>
        <p:spPr>
          <a:xfrm>
            <a:off x="1523880" y="533520"/>
            <a:ext cx="6286680" cy="5771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20612400">
            <a:off x="380880" y="837720"/>
            <a:ext cx="3105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FLEXIV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EEA-979A-4C3E-9155-C26CA01541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36600" y="1371600"/>
          <a:ext cx="8470800" cy="392580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461880"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CESO COGNITIVO CRE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2743200">
                <a:tc>
                  <a:txBody>
                    <a:bodyPr lIns="47880" rIns="4788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eña la portada de la gu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eña un logotip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udia unas propuestas para mejorar la vida en el puebl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s, propue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D59-E2B9-443C-9CDA-4606B9B8B0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882720"/>
            <a:ext cx="8534160" cy="1218960"/>
          </a:xfrm>
          <a:prstGeom prst="downArrowCallout">
            <a:avLst>
              <a:gd name="adj1" fmla="val -48418"/>
              <a:gd name="adj2" fmla="val 153021"/>
              <a:gd name="adj3" fmla="val 33986"/>
              <a:gd name="adj4" fmla="val 4244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913320"/>
            <a:ext cx="8382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SAMIENTO ANA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760" y="2133720"/>
            <a:ext cx="8610480" cy="3657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 Rectángulo"/>
          <p:cNvSpPr/>
          <p:nvPr/>
        </p:nvSpPr>
        <p:spPr>
          <a:xfrm>
            <a:off x="477720" y="2286000"/>
            <a:ext cx="81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l pensamiento analógic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usca permanentemente similitudes entre cosas y situaciones que aparentemente son diferentes, y busca diferencias entre cosas y/o situaciones que aparentemente son simi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pensamiento analógico establece conexiones entre los mundos visibles e invisibles trazando puentes que nos muestran sus semejanz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D09-E85A-483F-A65A-06A016A729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www.scielo.org.co/img/revistas/inno/v13n22/v13n22a06anex1.gif"/>
          <p:cNvPicPr/>
          <p:nvPr/>
        </p:nvPicPr>
        <p:blipFill>
          <a:blip r:embed="rId1"/>
          <a:stretch/>
        </p:blipFill>
        <p:spPr>
          <a:xfrm>
            <a:off x="3200400" y="685800"/>
            <a:ext cx="4822920" cy="5715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 rot="21188400">
            <a:off x="990720" y="1066680"/>
            <a:ext cx="2989080" cy="13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ALÓGIC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D0B-1BDD-494C-A132-B28BEA6681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43080" y="1371600"/>
          <a:ext cx="8458200" cy="4103640"/>
        </p:xfrm>
        <a:graphic>
          <a:graphicData uri="http://schemas.openxmlformats.org/drawingml/2006/table">
            <a:tbl>
              <a:tblPr/>
              <a:tblGrid>
                <a:gridCol w="3206520"/>
                <a:gridCol w="5251680"/>
              </a:tblGrid>
              <a:tr h="7509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NSAMIENTO ANA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Opera con datos e ideas y busca metáforas y model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2808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comunic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s utilizado o has oído alguna vez las expresiones: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“telebasura” o “caja tonta”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si es así trata de responder a estas dos cuestiones: ¿qué crees que significan?, por qué crees que se utiliza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social y ciudad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 frecuencia se dice que las personas que salen en televisión se convierten en “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modelos” a imita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¿Qué crees que significa esta expresión?. ¿Podrías identificar algunos de esos “modelos”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A6A-D1D2-4FCD-8535-36410AFEC3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36600" y="1541520"/>
          <a:ext cx="8470800" cy="301140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461520"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3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CESO COGNITIVO ANA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29880">
                <a:tc>
                  <a:txBody>
                    <a:bodyPr lIns="47880" rIns="4788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truir una maqueta de la localida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scar un logotipo y justificarl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tos 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B1B-A2C4-4F76-A7F8-E636820DA4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1035000"/>
            <a:ext cx="8534160" cy="1219320"/>
          </a:xfrm>
          <a:prstGeom prst="downArrowCallout">
            <a:avLst>
              <a:gd name="adj1" fmla="val -48403"/>
              <a:gd name="adj2" fmla="val 152976"/>
              <a:gd name="adj3" fmla="val 33986"/>
              <a:gd name="adj4" fmla="val 42449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065600"/>
            <a:ext cx="838224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NSAMIENTO DELIB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760" y="2438280"/>
            <a:ext cx="8610480" cy="3276720"/>
          </a:xfrm>
          <a:prstGeom prst="roundRect">
            <a:avLst>
              <a:gd name="adj" fmla="val 16667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Rectángulo"/>
          <p:cNvSpPr/>
          <p:nvPr/>
        </p:nvSpPr>
        <p:spPr>
          <a:xfrm>
            <a:off x="351000" y="2590920"/>
            <a:ext cx="844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El pensamiento deliberativ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es el modo de pensar que conviene desarrollar en la adopción de decis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 pensamiento deliberativo nos conduce hasta la adopción de una decisión, pero lo hace, habitualmente no con la forma de un “cálculo lógico”, o de un algoritmo, sino con la forma de un “cálculo de criterios y/o de valor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311-A8B7-4F04-983C-25F93A20E6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images.google.es/url?q=http://upload.wikimedia.org/wikipedia/commons/thumb/5/5b/Byzantinischer_Mosaizist_des_5._Jahrhunderts_002.jpg/250px-Byzantinischer_Mosaizist_des_5._Jahrhunderts_002.jpg&amp;usg=AFQjCNHWOdwqAKTegOIvXgBqzJ0FjdRgWQ"/>
          <p:cNvPicPr/>
          <p:nvPr/>
        </p:nvPicPr>
        <p:blipFill>
          <a:blip r:embed="rId1"/>
          <a:stretch/>
        </p:blipFill>
        <p:spPr>
          <a:xfrm>
            <a:off x="2133720" y="533520"/>
            <a:ext cx="4267080" cy="533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1086400">
            <a:off x="5181120" y="4723920"/>
            <a:ext cx="2989440" cy="13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LIBERATIV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05D0-9523-42BF-9D3E-03F946882A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04920" y="838080"/>
          <a:ext cx="8458200" cy="5416560"/>
        </p:xfrm>
        <a:graphic>
          <a:graphicData uri="http://schemas.openxmlformats.org/drawingml/2006/table">
            <a:tbl>
              <a:tblPr/>
              <a:tblGrid>
                <a:gridCol w="3208320"/>
                <a:gridCol w="5249880"/>
              </a:tblGrid>
              <a:tr h="80172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ENSAMIENTO DELIBER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Opera con criterios para adoptar decisi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52424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comunic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dacta con claridad con precisión y precisión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los criterios que convendrí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tener en cuenta para decidir sobre el consumo responsable de la telev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social y ciudad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para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tus propios argument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ara participar activamente en el debate que vamos a realizar en clase para responder a esta cuestión: ¿debemos limitar el uso de la televisión en casa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autonomía e iniciativa perso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ecide y expres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tu agenda semanal las horas y días en los que verás la telev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899-7A10-4ACA-B553-9DA4826C2A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36600" y="1752480"/>
          <a:ext cx="8470800" cy="270684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461880"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3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CESO COGNITIVO DELIBER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524960">
                <a:tc>
                  <a:txBody>
                    <a:bodyPr lIns="47880" rIns="4788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batir y seleccionar las mejores imágenes de la localida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terios y val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74C-678C-4CE8-A214-B6EB49B656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035000"/>
            <a:ext cx="8534160" cy="1219320"/>
          </a:xfrm>
          <a:prstGeom prst="downArrowCallout">
            <a:avLst>
              <a:gd name="adj1" fmla="val -48403"/>
              <a:gd name="adj2" fmla="val 152976"/>
              <a:gd name="adj3" fmla="val 33986"/>
              <a:gd name="adj4" fmla="val 42449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065600"/>
            <a:ext cx="8382240" cy="459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NSAMIENTO PR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760" y="2590920"/>
            <a:ext cx="8610480" cy="32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 Rectángulo"/>
          <p:cNvSpPr/>
          <p:nvPr/>
        </p:nvSpPr>
        <p:spPr>
          <a:xfrm>
            <a:off x="357120" y="2666880"/>
            <a:ext cx="8429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El pensamiento práctic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yuda a superar todas aquellas situaciones en las que parece necesario y/o conveniente desarrollar alguna acción, ya sea para resolver un problema, introducir una mejora, o evitar que la situación empeo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 pensamiento práctico persigue la creación de “rutinas útiles” es decir el encadenamiento de acciones cuyos resultados finales son dese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6B6-42D8-4DD4-B4EF-F4AD9F0268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34800" y="762120"/>
          <a:ext cx="8472600" cy="5437080"/>
        </p:xfrm>
        <a:graphic>
          <a:graphicData uri="http://schemas.openxmlformats.org/drawingml/2006/table">
            <a:tbl>
              <a:tblPr/>
              <a:tblGrid>
                <a:gridCol w="2713320"/>
                <a:gridCol w="5759280"/>
              </a:tblGrid>
              <a:tr h="86508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NSAMIENTO REFLEXIV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Opera con ideas, sentimientos, emociones, etc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21932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comunic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 una lista de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tus program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favorito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televisión y junto a cada uno de ellos expresa las razones por las que te gusta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121896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matem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leta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tu lista de program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favorit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con el tiempo que dedicamos a ver cada uno de ellos y el horario en el que lo realiz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en el conocimiento y la intera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ñade a la lista anterior una descripción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e tu comportamien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cuando estás viendo esos problemas (te sientas, comes, lees, hablas, comes, etc.), así como una descripción de las condiciones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n las que ves la televisió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en mi habitación, en un salón, en la cocina, et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211-6EE1-43DA-9593-529CB540B1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ttp://www.adrformacion.com/udsimg/calidad/3/Plantilla.gif"/>
          <p:cNvPicPr/>
          <p:nvPr/>
        </p:nvPicPr>
        <p:blipFill>
          <a:blip r:embed="rId1"/>
          <a:stretch/>
        </p:blipFill>
        <p:spPr>
          <a:xfrm>
            <a:off x="2790720" y="762120"/>
            <a:ext cx="5139000" cy="5257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 rot="2749200">
            <a:off x="529560" y="2441520"/>
            <a:ext cx="298944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ÁTIC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523-0A70-4884-A43A-71C3DC7838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2920" y="762120"/>
          <a:ext cx="8696160" cy="5211720"/>
        </p:xfrm>
        <a:graphic>
          <a:graphicData uri="http://schemas.openxmlformats.org/drawingml/2006/table">
            <a:tbl>
              <a:tblPr/>
              <a:tblGrid>
                <a:gridCol w="3297240"/>
                <a:gridCol w="5398920"/>
              </a:tblGrid>
              <a:tr h="93492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ENSAMIENTO PRÁC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Opera con datos, hechos y permite abstra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21896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matem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resenta gráficamente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la secuencia de accion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ecesarias para llevar a cabo el proyecto para un consumo responsab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1829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social y ciudad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Organiza una agenda semanal de actividad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que incluya un consumo limitado y responsable de la televisión y que te permita desarrollar otras actividades, incluidas los deberes del coleg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96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en el conocimiento y la intera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Prepara los documentos y los espaci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el aula para realizar el debate sobre el consumo responsable de la telev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A2B2-0F3C-42C0-BC19-E2027EDC65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36600" y="2076480"/>
          <a:ext cx="8470800" cy="279720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460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CESO COGNITIVO PRÁC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ganizar el trabajo de los grupos para la realización de la guí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tos, hechos, procedimiento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A1A-EBE7-4012-AA40-0977056E04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1035000"/>
            <a:ext cx="8534160" cy="1219320"/>
          </a:xfrm>
          <a:prstGeom prst="downArrowCallout">
            <a:avLst>
              <a:gd name="adj1" fmla="val -48403"/>
              <a:gd name="adj2" fmla="val 152976"/>
              <a:gd name="adj3" fmla="val 33986"/>
              <a:gd name="adj4" fmla="val 42449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065600"/>
            <a:ext cx="83822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SAMIENTO SIST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760" y="2590920"/>
            <a:ext cx="8610480" cy="28954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Rectángulo"/>
          <p:cNvSpPr/>
          <p:nvPr/>
        </p:nvSpPr>
        <p:spPr>
          <a:xfrm>
            <a:off x="371520" y="2743200"/>
            <a:ext cx="84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l pensamiento sistémic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s la vía por la que accedemos a las realidades complejas, a las realidades que son irreductibles a sus partes, a las realidades que desaparecen cuando las fragmentam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pensador sistémico, define relaciones y las presenta en forma de sistemas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4CE-2F35-4E67-90BD-6D7A06B812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iagrama del ciclo del agua. "/>
          <p:cNvPicPr/>
          <p:nvPr/>
        </p:nvPicPr>
        <p:blipFill>
          <a:blip r:embed="rId1"/>
          <a:stretch/>
        </p:blipFill>
        <p:spPr>
          <a:xfrm>
            <a:off x="1084320" y="762120"/>
            <a:ext cx="4416480" cy="5562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 rot="1617000">
            <a:off x="5866920" y="2437920"/>
            <a:ext cx="2989440" cy="13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ISTÉMIC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E0C-A20E-4A20-BA3F-373434124AB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28600" y="990720"/>
          <a:ext cx="8686800" cy="4954320"/>
        </p:xfrm>
        <a:graphic>
          <a:graphicData uri="http://schemas.openxmlformats.org/drawingml/2006/table">
            <a:tbl>
              <a:tblPr/>
              <a:tblGrid>
                <a:gridCol w="2971800"/>
                <a:gridCol w="5715000"/>
              </a:tblGrid>
              <a:tr h="110952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NSAMIENTO SISTÉM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Opera con datos e ideas y busca establecer relaciones de ord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09872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tecnología de la información y competencia digit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sca en distintas fuentes de información las programaciones semanales de las televisiones y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comprueba si hay relación entre los programas y el horario en el que se emit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13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social y ciudad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aliza las listas de programas más vistos de tus compañeros y compañeras y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comprueba si hay alguna relación entre el tiempo dedicado a ver televisión y los resultados en la escuel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04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cultural y art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sca en distintas fuentes de información las programaciones semanales de las televisiones (nacionales y autonómicas) y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comprueba si hay relación entre los programas y el lugar desde donde emit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DEA-774D-46B7-9C75-0D0D125211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36600" y="1447920"/>
          <a:ext cx="8470800" cy="371160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460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CESO COGNITIVO SISTÉM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udiar los datos de los visitantes de la localidad antes y después de la elaboración de la gu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eñar cualquier actividad de reciclaje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tos 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600-7D3F-43B2-B406-80CDAF801B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914400" y="2590920"/>
            <a:ext cx="7315200" cy="838080"/>
            <a:chOff x="914400" y="2590920"/>
            <a:chExt cx="7315200" cy="838080"/>
          </a:xfrm>
        </p:grpSpPr>
        <p:sp>
          <p:nvSpPr>
            <p:cNvPr id="119" name=""/>
            <p:cNvSpPr/>
            <p:nvPr/>
          </p:nvSpPr>
          <p:spPr>
            <a:xfrm>
              <a:off x="914400" y="2590920"/>
              <a:ext cx="7315200" cy="8380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0">
              <a:noFill/>
            </a:ln>
            <a:effectLst>
              <a:outerShdw dist="188838" dir="19062257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28880" y="2727360"/>
              <a:ext cx="70866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88838" dir="19062257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EJEMPLO DE TAREA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E7E-782A-409D-BAFE-88763E4FF2E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609480"/>
            <a:ext cx="8763120" cy="1981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0440" y="685800"/>
            <a:ext cx="8223120" cy="3235320"/>
          </a:xfrm>
          <a:prstGeom prst="downArrowCallout">
            <a:avLst>
              <a:gd name="adj1" fmla="val -54179"/>
              <a:gd name="adj2" fmla="val 61894"/>
              <a:gd name="adj3" fmla="val 14991"/>
              <a:gd name="adj4" fmla="val 4827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4560" y="1066680"/>
            <a:ext cx="799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UBLICAR EN EL  BLOG DE LA CLASE UN INFORME  SOBRE LOS INMIGRANTES DE LA LO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8920" y="4149720"/>
            <a:ext cx="8569080" cy="1584360"/>
            <a:chOff x="358920" y="4149720"/>
            <a:chExt cx="8569080" cy="1584360"/>
          </a:xfrm>
        </p:grpSpPr>
        <p:sp>
          <p:nvSpPr>
            <p:cNvPr id="125" name=""/>
            <p:cNvSpPr/>
            <p:nvPr/>
          </p:nvSpPr>
          <p:spPr>
            <a:xfrm>
              <a:off x="358920" y="4149720"/>
              <a:ext cx="8569080" cy="15843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11280" y="4365720"/>
              <a:ext cx="1799640" cy="1078920"/>
              <a:chOff x="611280" y="4365720"/>
              <a:chExt cx="1799640" cy="1078920"/>
            </a:xfrm>
          </p:grpSpPr>
          <p:sp>
            <p:nvSpPr>
              <p:cNvPr id="127" name=""/>
              <p:cNvSpPr/>
              <p:nvPr/>
            </p:nvSpPr>
            <p:spPr>
              <a:xfrm>
                <a:off x="611280" y="4365720"/>
                <a:ext cx="1799640" cy="107892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7000" y="4538880"/>
                <a:ext cx="1710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ORIGEN Y VIAJ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916360" y="4402080"/>
              <a:ext cx="2160000" cy="1079280"/>
              <a:chOff x="2916360" y="4402080"/>
              <a:chExt cx="2160000" cy="1079280"/>
            </a:xfrm>
          </p:grpSpPr>
          <p:sp>
            <p:nvSpPr>
              <p:cNvPr id="130" name=""/>
              <p:cNvSpPr/>
              <p:nvPr/>
            </p:nvSpPr>
            <p:spPr>
              <a:xfrm>
                <a:off x="2916360" y="4402080"/>
                <a:ext cx="2160000" cy="1079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971440" y="457524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POR QUÉ VINIER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508720" y="4422600"/>
              <a:ext cx="3239280" cy="1037880"/>
              <a:chOff x="5508720" y="4422600"/>
              <a:chExt cx="3239280" cy="1037880"/>
            </a:xfrm>
          </p:grpSpPr>
          <p:sp>
            <p:nvSpPr>
              <p:cNvPr id="133" name=""/>
              <p:cNvSpPr/>
              <p:nvPr/>
            </p:nvSpPr>
            <p:spPr>
              <a:xfrm>
                <a:off x="5508720" y="4422600"/>
                <a:ext cx="3239280" cy="10378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91160" y="4589280"/>
                <a:ext cx="3078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INTEGRACIÓN EN LA LOCALIDA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EFB-9AFA-4EB2-B18D-43429A531E0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87280" y="1295280"/>
          <a:ext cx="8569080" cy="4986360"/>
        </p:xfrm>
        <a:graphic>
          <a:graphicData uri="http://schemas.openxmlformats.org/drawingml/2006/table">
            <a:tbl>
              <a:tblPr/>
              <a:tblGrid>
                <a:gridCol w="3925800"/>
                <a:gridCol w="2016000"/>
                <a:gridCol w="262728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CESOS COGNITIV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1. Buscar información en páginas web de organismos oficiales, en las oficinas municipales, en los centros escolares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émico, analítico, 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Destrezas lingüís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Destreza dig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2 Construir tablas y gráficos con la in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émico, analítico, 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centaj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blas y grá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3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aborar una lista de los países de origen y localizarlos en el mapa. Averiguar a qué distancia se encuentran y las características geográficas del viaje de venid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émico, analítico, 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map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identes geográf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álculos matemát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4.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lexionar en un documento sobre las dificultades del viaje de los diferentes grupos de inmigrantes (subsahariano, magrebí, rumano, etc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lexivo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Destrezas lingüís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250920" y="685800"/>
            <a:ext cx="8640000" cy="469440"/>
            <a:chOff x="250920" y="685800"/>
            <a:chExt cx="8640000" cy="469440"/>
          </a:xfrm>
        </p:grpSpPr>
        <p:sp>
          <p:nvSpPr>
            <p:cNvPr id="137" name=""/>
            <p:cNvSpPr/>
            <p:nvPr/>
          </p:nvSpPr>
          <p:spPr>
            <a:xfrm>
              <a:off x="250920" y="685800"/>
              <a:ext cx="8640000" cy="45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1240" y="756360"/>
              <a:ext cx="821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1. ORIGEN Y VIA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648-2BA1-48C0-BAE7-32B384D625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36600" y="1371600"/>
          <a:ext cx="8470800" cy="418140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516960"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CESO COGNITIVO REFLEX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2787120">
                <a:tc>
                  <a:txBody>
                    <a:bodyPr lIns="47880" rIns="4788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cribe qué sabes de la historia de tu puebl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Describe los monumentos más importantes y por qué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¿Qué más te gustaría sabe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chos, conceptos, emociones, sentimientos,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D38-0736-448B-A223-19D486C13A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87280" y="1295280"/>
          <a:ext cx="8569080" cy="5097600"/>
        </p:xfrm>
        <a:graphic>
          <a:graphicData uri="http://schemas.openxmlformats.org/drawingml/2006/table">
            <a:tbl>
              <a:tblPr/>
              <a:tblGrid>
                <a:gridCol w="3565440"/>
                <a:gridCol w="2879640"/>
                <a:gridCol w="2124000"/>
              </a:tblGrid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CESOS COGNITIV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80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1. Elaborar un cuestionario para recabar informació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aborar las pregun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cer el cuestionario digitalmente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aborar tabla de volcado de la información obtenid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émico,  analí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Destrezas lingüís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treza dig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os estadíst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2. Identificar las diferentes razones y relacionarlas con los países de ori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ógico, sistémico, deliber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emas polít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ograf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3. Seleccionar información en la prensa que recoja historias similares de las obtenida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lexivo, lógico, ana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Destrezas lingüís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ar por escrito la opinión personal sobre los motivos de los inmigrantes para veni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lexivo, crítico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Destrezas lingüís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250920" y="685800"/>
            <a:ext cx="8640000" cy="576360"/>
            <a:chOff x="250920" y="685800"/>
            <a:chExt cx="8640000" cy="576360"/>
          </a:xfrm>
        </p:grpSpPr>
        <p:sp>
          <p:nvSpPr>
            <p:cNvPr id="141" name=""/>
            <p:cNvSpPr/>
            <p:nvPr/>
          </p:nvSpPr>
          <p:spPr>
            <a:xfrm>
              <a:off x="250920" y="685800"/>
              <a:ext cx="8640000" cy="57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240" y="778320"/>
              <a:ext cx="821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.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R QUÉ VINIER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3CE-5986-441B-A0F4-A3EBC0CD424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58920" y="1281240"/>
          <a:ext cx="8569080" cy="4626000"/>
        </p:xfrm>
        <a:graphic>
          <a:graphicData uri="http://schemas.openxmlformats.org/drawingml/2006/table">
            <a:tbl>
              <a:tblPr/>
              <a:tblGrid>
                <a:gridCol w="3565440"/>
                <a:gridCol w="2879640"/>
                <a:gridCol w="21240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CESOS COGNITIV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1.Con la información obtenida compara las condiciones de vida de una familia inmigrante y la tuya.  Analiza las diferenci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émico, analógico, crítico, analí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Destrezas lingüíst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Destrezas matemá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2. ¿Por qué crees que se utiliza la palabra “Ilegales” para nombrar a los inmigrantes?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lítico, crítico,  ana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Destrezas lingüíst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. Prepara argumentos para participar en el debate que haremos en clase : ¿tiene fundamento relacionar la inmigración con la delincuencia?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iberativo, reflex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Destrezas lingüíst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4. Prepara algunas propuestas para fomentar la integración del alumnado inmigrante de tu cent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Destrezas lingüíst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Plástic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250920" y="533520"/>
            <a:ext cx="8640000" cy="576000"/>
            <a:chOff x="250920" y="533520"/>
            <a:chExt cx="8640000" cy="576000"/>
          </a:xfrm>
        </p:grpSpPr>
        <p:sp>
          <p:nvSpPr>
            <p:cNvPr id="145" name=""/>
            <p:cNvSpPr/>
            <p:nvPr/>
          </p:nvSpPr>
          <p:spPr>
            <a:xfrm>
              <a:off x="250920" y="533520"/>
              <a:ext cx="8640000" cy="57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1240" y="626040"/>
              <a:ext cx="821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3.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DO DE INTEG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077-85D2-4896-B280-6F9611C5F99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730080"/>
            <a:ext cx="8534160" cy="1219320"/>
          </a:xfrm>
          <a:prstGeom prst="downArrowCallout">
            <a:avLst>
              <a:gd name="adj1" fmla="val -48403"/>
              <a:gd name="adj2" fmla="val 152976"/>
              <a:gd name="adj3" fmla="val 33986"/>
              <a:gd name="adj4" fmla="val 42449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761040"/>
            <a:ext cx="83822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SAMIENTO ANAL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025720"/>
            <a:ext cx="8610480" cy="3917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 Rectángulo"/>
          <p:cNvSpPr/>
          <p:nvPr/>
        </p:nvSpPr>
        <p:spPr>
          <a:xfrm>
            <a:off x="520560" y="2133720"/>
            <a:ext cx="810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l pensamiento analític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os ayuda a “encuadrar”, o “cuadricular” la realidad para poder llegar a pensarla mej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í pues, el pensador analítico crea una forma de representación de la realidad basada en “casillas” claramente diferenciadas y homogéne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pensamiento analítico se basa en la abstracción para generar datos que, a su vez, permiten establecer semejanzas y diferencias entre distintos aspectos de l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B22-D55B-49BC-81E6-95CD29D936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oc4map3"/>
          <p:cNvPicPr/>
          <p:nvPr/>
        </p:nvPicPr>
        <p:blipFill>
          <a:blip r:embed="rId1"/>
          <a:stretch/>
        </p:blipFill>
        <p:spPr>
          <a:xfrm>
            <a:off x="380880" y="685800"/>
            <a:ext cx="502920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2514600" y="4495680"/>
          <a:ext cx="5586120" cy="1438200"/>
        </p:xfrm>
        <a:graphic>
          <a:graphicData uri="http://schemas.openxmlformats.org/drawingml/2006/table">
            <a:tbl>
              <a:tblPr/>
              <a:tblGrid>
                <a:gridCol w="1274760"/>
                <a:gridCol w="1276200"/>
                <a:gridCol w="880920"/>
                <a:gridCol w="2154240"/>
              </a:tblGrid>
              <a:tr h="1681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es de una matriz de datos Samaja (19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Unidad de análi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al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cad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Jos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telige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spuestas a un determinado test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 rot="1821000">
            <a:off x="5602320" y="888840"/>
            <a:ext cx="310500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ALÍTIC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535-DB2E-4F2B-A4F9-B2DA0930E0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762120"/>
          <a:ext cx="8458200" cy="5506920"/>
        </p:xfrm>
        <a:graphic>
          <a:graphicData uri="http://schemas.openxmlformats.org/drawingml/2006/table">
            <a:tbl>
              <a:tblPr/>
              <a:tblGrid>
                <a:gridCol w="3208320"/>
                <a:gridCol w="5249880"/>
              </a:tblGrid>
              <a:tr h="93492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NSAMIENTO ANALÍ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Opera con datos, hechos y permite abstra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2880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matem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una tabl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la que puedas incluir los programas de televisión preferidos en tu clase y los tiempos que son vistos. Ordena la lista de mayor a menor preferencia y represéntala gráficame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social y ciudad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Seleccio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una noticia de televisión y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compar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forma y el contenido con el que aparecen en las distintas cadenas de telev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16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en el conocimiento y la intera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e con atención los datos que se presentan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n la tabl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y describe con tus propias palabras lo que esos datos nos enseñanza sobre el consumo de telev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B90-5BC7-4605-931B-C7B56A5C0C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36600" y="1143000"/>
          <a:ext cx="8470800" cy="484020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461880"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CESO COGNITIVO ANALÍ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657600">
                <a:tc>
                  <a:txBody>
                    <a:bodyPr lIns="47880" rIns="4788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 una guía de monumentos, acontecimientos y personajes de la localidad y establece relaciones entre ell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Analizar distintas guías e identificar los apartados que contie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tos y hech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9B8-4BFF-419A-8331-A860783ED0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730080"/>
            <a:ext cx="8534160" cy="1219320"/>
          </a:xfrm>
          <a:prstGeom prst="downArrowCallout">
            <a:avLst>
              <a:gd name="adj1" fmla="val -48403"/>
              <a:gd name="adj2" fmla="val 152976"/>
              <a:gd name="adj3" fmla="val 33986"/>
              <a:gd name="adj4" fmla="val 42449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761040"/>
            <a:ext cx="8382240" cy="459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SAMIENTO 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025720"/>
            <a:ext cx="8610480" cy="40701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 Rectángulo"/>
          <p:cNvSpPr/>
          <p:nvPr/>
        </p:nvSpPr>
        <p:spPr>
          <a:xfrm>
            <a:off x="447840" y="2133720"/>
            <a:ext cx="8248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l pensamiento lógico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, ante todo, una forma ordenada de expresar nuestras ideas y es, precisamente, esa expresión ordenada la que puede llevarnos al convencimiento de que tenemos raz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sar lógicamente es, ante todo, obtener nuevas ideas, a partir de ideas existentes, siguiendo unas reglas precisas. Esto es: razonar, argumentar, fundamen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pensamiento lógico intenta definir, ordenar, clasificar, explicar, razonar, sacar conclus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C7F-CFBF-4AA5-81A5-36FBEC91D5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7:22:09Z</dcterms:created>
  <dc:creator>hp</dc:creator>
  <dc:description/>
  <dc:language>en-US</dc:language>
  <cp:lastModifiedBy>pilar</cp:lastModifiedBy>
  <dcterms:modified xsi:type="dcterms:W3CDTF">2010-01-18T09:50:19Z</dcterms:modified>
  <cp:revision>40</cp:revision>
  <dc:subject/>
  <dc:title>Diapositiva 1</dc:title>
</cp:coreProperties>
</file>